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D17-B5AD-4812-80EF-7569E2FD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53F-5C57-44B1-BA9B-9F82BA63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62F-5666-4211-8A1C-BEE0096F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09C-AEAB-4F1C-B5EF-110FB732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A9F-BDC6-450A-B217-ECED18FC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250-660B-4BC8-BA0D-51A1BEFB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5EC-DE11-467C-BCFE-EF78E3EA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71E-CE8A-48E3-963A-2E4E02D4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62F-77B9-4845-8912-3DA90B21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9A0-FFE4-412D-9D09-F1B1BA9E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702-4E47-4900-92BB-4B4D549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A09-F6AB-48ED-933F-212BD8C9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6AFD-025A-45CA-9CE4-8DDAD3303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דואים   -  בדוו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62481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רי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מילה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29160" y="2362320"/>
            <a:ext cx="5514840" cy="413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40006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דוא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 __ __ 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אוהל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אוהל  בדואי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שטיח</a:t>
            </a:r>
            <a:r>
              <a:rPr b="1" lang="he-IL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4753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טוב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מילה</a:t>
            </a: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77120" y="1514520"/>
            <a:ext cx="1724040" cy="5343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אח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דקה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05520" y="179064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מדבר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גבר</a:t>
            </a:r>
            <a:r>
              <a:rPr b="0" lang="he-IL" sz="8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__ __ __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אוה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בדווים</a:t>
            </a:r>
            <a:r>
              <a:rPr b="0" lang="he-IL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4995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 __ __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וגבר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גבר</a:t>
            </a:r>
            <a:r>
              <a:rPr b="0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עזרת  __ __ __ __ __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ועזרת     נשים   בבית כנסת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גברים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302280" cy="4524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אוהל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שטיח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5480" y="2189160"/>
            <a:ext cx="49532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8800"/>
            </a:b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דקה</a:t>
            </a:r>
            <a:r>
              <a:rPr b="1" lang="he-IL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INU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533760" cy="3495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6750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191120" y="3352680"/>
            <a:ext cx="26096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גבר  (</a:t>
            </a:r>
            <a:r>
              <a:rPr b="1" lang="he-IL" sz="4800" spc="-1" strike="noStrike">
                <a:solidFill>
                  <a:srgbClr val="000000"/>
                </a:solidFill>
                <a:latin typeface="Arial"/>
              </a:rPr>
              <a:t>בדואי במדבר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he-IL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7400" y="18478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מילה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he-IL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60199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מיל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(במילון 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WORD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8676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ילה    מילים      במילו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אליעזר  בן  יהוד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3809880" cy="3686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8573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7200" spc="-1" strike="noStrike">
                <a:solidFill>
                  <a:srgbClr val="000000"/>
                </a:solidFill>
                <a:latin typeface="Arial"/>
              </a:rPr>
              <a:t>מילים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יפות  לסבא  וסבתא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9880" y="2343240"/>
            <a:ext cx="50292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23:42:21Z</dcterms:created>
  <dc:creator>Preferred Customer</dc:creator>
  <dc:description/>
  <dc:language>en-US</dc:language>
  <cp:lastModifiedBy>aschlezinger</cp:lastModifiedBy>
  <dcterms:modified xsi:type="dcterms:W3CDTF">2011-02-17T18:44:54Z</dcterms:modified>
  <cp:revision>3</cp:revision>
  <dc:subject/>
  <dc:title>בדואים   -  בדווים  </dc:title>
</cp:coreProperties>
</file>